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5A5-CB0D-42D9-8957-047630A5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8D3-CE00-46C3-95E8-FE043257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960-6859-4B8A-80C7-25B03577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5CD-FE28-4972-BBD5-33529320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EB4-CF74-46E9-8A8B-81579448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A45-966F-4525-9E7D-32BBB576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72B-169D-492F-BB89-516EC0BD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800-8727-4926-AC9A-1B6E55F1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671-6B33-4356-B90B-1BCC6130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7FA-5F67-4C6D-BDD4-D0CEFC30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992-420E-4C03-8CB8-2D5A1C16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5BE-EAF0-4655-94FB-CE9B1DD0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22F-E275-473A-A7F5-E8D5A33797B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ых образовательных маршрутов при подготовке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по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ематических зад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5240" y="1197000"/>
            <a:ext cx="411480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108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группов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716360" y="1792440"/>
            <a:ext cx="419112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Объект 5" descr=""/>
          <p:cNvPicPr/>
          <p:nvPr/>
        </p:nvPicPr>
        <p:blipFill>
          <a:blip r:embed="rId2"/>
          <a:stretch/>
        </p:blipFill>
        <p:spPr>
          <a:xfrm>
            <a:off x="179280" y="1792440"/>
            <a:ext cx="421164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5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65800" cy="564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20880" cy="5646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индивидуальн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ндивидуальных домашних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10" descr=""/>
          <p:cNvPicPr/>
          <p:nvPr/>
        </p:nvPicPr>
        <p:blipFill>
          <a:blip r:embed="rId1"/>
          <a:stretch/>
        </p:blipFill>
        <p:spPr>
          <a:xfrm>
            <a:off x="4575240" y="1409760"/>
            <a:ext cx="4111560" cy="54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765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Сканы для презентации\img131.jpg"/>
          <p:cNvPicPr/>
          <p:nvPr/>
        </p:nvPicPr>
        <p:blipFill>
          <a:blip r:embed="rId1"/>
          <a:stretch/>
        </p:blipFill>
        <p:spPr>
          <a:xfrm>
            <a:off x="4694400" y="1089000"/>
            <a:ext cx="40878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220680" y="1071720"/>
            <a:ext cx="4233960" cy="57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ÐÐ°ÑÑÐ¸Ð½ÐºÐ¸ Ð¿Ð¾ Ð·Ð°Ð¿ÑÐ¾ÑÑ ÐºÐ°ÑÑÐ¸Ð½ÐºÐ° Ð²ÑÐµ Ð² Ð²Ð°ÑÐ¸Ñ ÑÑÐºÐ°Ñ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907920"/>
            <a:ext cx="7274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 Всякий, кто желает к ним приобщиться, должен достигнуть этого собственной деятельностью, собственными силами, собственным напряжением“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ьф 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списка желающих сдавать экзамен по химии и их анкетир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их родителей о порядке проведения ГИА в 9 и 11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моверсией, кодификатором и спецификацией ГИА по химии – 2019 г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анка заданий, тренажёров, опорных схем и т.д. по темам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ёх тренировочных экзаменов, информирование родителей о их результат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щих и частных проблем курса и составление индивидуальных образовательных траектор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вопросами, вызвавшими затруднения у большинства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10-12 заданий для получения необходимого минимума баллов для учеников группы «риска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заданиями высокого уровня сложности для учеников группы «сильны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урса по выбору «Окислительно-восстановительные реакци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 анализ тестов из сборника для подготовки и с сайтов «Решу ОГЭ, ЕГЭ», ФИПИ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1699920"/>
            <a:ext cx="849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ись 3 группы обучающихс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» - претенденты на получение высоких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которые при добросовестной подготовке могут набрать среднее количество баллов – 5 челов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а» - могут не набрать минимальное количество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ыбора химии в качестве ГИ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химию сдам лучше, чем другие возможные экзамены в формате ГИА -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нирую изучать химию на профильном уровне в старшей школе (10-11 классы) -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ен предмет химия –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анкетирования обучающихся 9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настоящий момент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минимальным (или чуть больше) количеством баллов –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будущее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высоким количеством баллов - 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11280" y="4149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зывают задания связанные со знанием химических свойств веществ, решением задач 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се собираются заниматься самостоятельно и на дополнительных консультациях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классам неорганически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92280"/>
          <a:ext cx="8229600" cy="4752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409760"/>
                <a:gridCol w="1295280"/>
                <a:gridCol w="1224000"/>
                <a:gridCol w="1214640"/>
                <a:gridCol w="1028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539640" y="5589720"/>
            <a:ext cx="820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: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ить  вещества по классам, наз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ещества варианта могут попарно взаимодействовать, написать уравнения    реакц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ещества варианта будут взаимодействовать с соляной кислотой, гидроксидом натрия и т. д., написать уравнения возможных реа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химическим реак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765000"/>
          <a:ext cx="7920000" cy="4608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582920"/>
                <a:gridCol w="1584360"/>
                <a:gridCol w="1584360"/>
              </a:tblGrid>
              <a:tr h="6494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g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Cu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Cu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l + 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g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Ni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755640" y="5458320"/>
            <a:ext cx="770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меры за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кончить уравнения возможных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пределить тип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Для реакций ионного обмена написать уравнения в ионном вид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бразовательные маршру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38512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516560" y="1557360"/>
            <a:ext cx="4259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1"/>
          <p:cNvSpPr/>
          <p:nvPr/>
        </p:nvSpPr>
        <p:spPr>
          <a:xfrm>
            <a:off x="2340000" y="5589720"/>
            <a:ext cx="4535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ы индивидуальные «зачетные книжки» для подготовки к экзаме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иагностических рабо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3095640" cy="54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5076720" y="1150920"/>
            <a:ext cx="3125880" cy="54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6T16:21:20Z</dcterms:created>
  <dc:creator>Зоя Михайловна</dc:creator>
  <dc:description/>
  <dc:language>en-US</dc:language>
  <cp:lastModifiedBy>Клинова Мария Николаевна</cp:lastModifiedBy>
  <dcterms:modified xsi:type="dcterms:W3CDTF">2018-11-13T07:58:25Z</dcterms:modified>
  <cp:revision>43</cp:revision>
  <dc:subject/>
  <dc:title>Слайд 1</dc:title>
</cp:coreProperties>
</file>